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8870-379B-404B-8530-1E6918CBC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668C-983E-4915-B3E2-CD426EC0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57D7-A7C6-4969-8987-AB19FFC9F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E814-B5F5-47A7-98A5-66BCFB62B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F8D69-CC74-44CD-BA7D-F4A827BEC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AC9AD-77F4-4820-9C66-DB23485F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0AFCE-3983-4BF7-B7EB-76A33EB7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8A437-A3E0-4ED9-B219-BA62863C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59EA1-5985-4CD5-A1A6-BF54F8C3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E1A22-952F-4941-B137-06492049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C0D82-31C7-45AC-ADB2-41EE4315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3956-394F-4127-AAC6-398FB72A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AA8F1-9641-484E-B538-5A17D1BA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BC320-F818-4BF0-A9B4-302AB3D0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4012E-8A75-471B-89A8-BAA31499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A7552-5465-4B93-BBF1-BD90A12D2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F2443-B8E7-4C25-9D52-FA1AF5F66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440B-644B-418A-92C1-498E2612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2059-52C2-41E7-8F40-041D5E01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2C19-54BE-477F-A420-F435CD5B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7313-6BDE-4A83-AE4A-62F77200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BF15-B6F6-4D65-A152-AD1E8689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8341-BFB0-4EF9-A573-97A61331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0A3A-0DA5-44ED-9638-D30E27E9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F6E8-D420-4423-A633-3F82C83046B0}" type="slidenum">
              <a:rPr b="0" lang="en-US" sz="14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4688-09FD-4D47-8F5B-A4FED7565A2D}" type="slidenum">
              <a:rPr b="0" lang="en-US" sz="14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3300"/>
              </a:buClr>
              <a:buSzPct val="120000"/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switch.com/water/how-much-water-use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403280" y="692280"/>
            <a:ext cx="616284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궁서"/>
              </a:rPr>
              <a:t>SSJJJ Storage Facilit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궁서"/>
              <a:ea typeface="궁서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Storage for water</a:t>
            </a: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What do we use water for in our daily lives?</a:t>
            </a:r>
            <a:endParaRPr b="0" lang="en-US" sz="40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e person need to drink 2~3 liters of water a day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0 liters of water for taking a bath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 liters for flushing toilets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5 liters for washing clothes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5 liters for washing dishes and cook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3300"/>
                </a:solidFill>
                <a:uFillTx/>
                <a:latin typeface="굴림"/>
                <a:hlinkClick r:id="rId2"/>
              </a:rPr>
              <a:t>http://www.uswitch.com/water/how-much-water-use/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For one person…</a:t>
            </a: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-3 liters for drink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 times for flushing toilet (80 liters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0 liters for taking show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5 liters for washing clothes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≈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28 liters of water a day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228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MS Gothic"/>
              </a:rPr>
              <a:t>±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MS Gothic"/>
              </a:rPr>
              <a:t>7 liters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49360"/>
            <a:ext cx="8353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549360"/>
            <a:ext cx="8496000" cy="38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mic Sans MS"/>
              </a:rPr>
              <a:t>How many people in a family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Usually there are 2 adults in a family with 2 childr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= 4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±1 people in a family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235 liters x 5 people x 50 families= 58750 liters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Volume of the storage for water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=58750 liters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≈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5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3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The best shape to store water</a:t>
            </a: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ylind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Surface area of storage</a:t>
            </a: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mic Sans MS"/>
              </a:rPr>
              <a:t>Way of getting the surface area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r²+2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rh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r(r+h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Surface area of the storage</a:t>
            </a: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9640" y="1844640"/>
          <a:ext cx="8229600" cy="47527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diu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rea of the base (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π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²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igh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rface are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lu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395280" y="314172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335772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2:23:21Z</dcterms:created>
  <dc:creator>SEC</dc:creator>
  <dc:description/>
  <dc:language>en-US</dc:language>
  <cp:lastModifiedBy>SEC</cp:lastModifiedBy>
  <dcterms:modified xsi:type="dcterms:W3CDTF">2008-11-28T13:15:56Z</dcterms:modified>
  <cp:revision>2</cp:revision>
  <dc:subject/>
  <dc:title>Storage for water</dc:title>
</cp:coreProperties>
</file>